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D88A-989B-4777-8D5F-D6A7B4D9A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B89-8B1C-4763-B1F0-76910A31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range map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162-8256-4CFB-B3F5-456AE259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577A-6F51-4518-A99F-E1EF98B71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375E-045B-4C1D-9D18-9CC42FF0A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880B-4F6C-4EE4-B6CC-6C0D8A3EF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1F09-3714-4C37-98CA-CE487CDBF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515285&amp;SearchText=Investigations+Into+The+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316997&amp;PageSize=50&amp;SearchText=fidel+cas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633-408D-4C46-A60C-E342E829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A941-163E-4136-8EAC-C20C4774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111-C08E-42C3-A232-7D9DA1476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launch site photo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E54-35AB-426C-8511-E3EADD77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177-521D-4969-A813-0F8BC904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7A1-6E68-42E6-A131-5ACF746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302-44B3-4D47-BE41-133AF22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56A5-4F57-4EC1-8D4D-8EECC4B8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8304-E64B-409D-8421-062B5F16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2BA-2B58-47C6-9BBA-DF3E8E2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93D0-D68A-4AA3-8EE7-673DCD1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6842-D670-4000-82EF-D8392665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5E0-9DC8-461C-B9C7-DFCA5DD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67CC-44C0-4419-8E51-3A2D633D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780-5ABA-4740-B3FD-BB9D3F8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D12C-9D86-4AB4-BF4D-453B474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A0C2-D7E1-4346-B375-B13A79F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A04D-C3A4-4578-AB8B-0AA1E25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4D49-5AA5-46FB-8D9E-A83FA04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2BA7-87F1-469E-AAB5-F5EF1D2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BAC0-5775-4638-B95D-85AECC72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C571-C40C-4DC0-9E3C-FC6C3B43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B83A6-B5E1-43BF-86AC-4EA12CF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55FA-C817-48EB-BB19-F2D34CA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806E-E8D9-457C-9C1C-35CDB12C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241-0BC0-42C9-9183-E64D74C1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BA2A-1D35-445B-BC9A-A5760D99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A3FC-6BC4-492B-BAB8-35F67F1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909C9-F1A1-4D8E-B649-B35B4AB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CBF2-2518-4336-8D3B-83F5046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D850-3C15-4503-B4F2-34D9E4B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13079-085C-44D3-84EA-DA5340ED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38F3-8405-4A31-85BE-E4A97EF4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E2DF-CFDD-4194-99FE-6DA561E0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B470D-1B5C-49B1-A037-47950BD7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50DB-322F-418A-BFF0-AB0F9017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347-A93F-4110-9AB1-474BCBA0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2704-FBE1-4BB9-9364-DB27959B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63F1-116F-48AB-83F1-1AA1AE0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75E2-AE4E-477F-9EE5-06365BFA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B113-39D5-4C87-8F9A-1AF0C8C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611D-CC48-4DBD-9C6A-041379C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FBF0-01E4-4252-8B0A-9BA79F2C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95E4B-B689-4B2A-9D8F-ACDEC51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9106-29B7-47A2-9FA5-0D77F6DD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83320-D907-4F8A-A5FF-B69B06F4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3781-D4DB-40F4-ABB2-B74604D2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A7C-21EC-40A5-BA55-3C91510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C7A9-DEE5-4565-B4FB-251F97C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27DF-61D5-4C06-AE74-FC1F3222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9510-517C-4AE6-87E5-E16635D3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A606-055C-438D-B6FB-FC6F5548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150F9-91C6-48AE-90DB-40184F5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A79B2-4B8D-4DCA-8583-2BBB9AEE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774F-29EA-4D65-B41B-AC366472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CBE3-28F5-4A60-A74D-FA9637B4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8805-8798-48AE-BD9B-4AECBA8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989A-2304-48AF-969D-639FD48C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237-3553-409E-B8BF-0A5AEBA8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E143-74AA-4BF7-950E-5DA10BF5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20BD6-A7ED-4373-8AC8-CC15D9B5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B7722-D6B0-435E-A4CE-6DD1E87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DD50-8865-44C7-AA5E-9175AEBC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8E74-BE59-4C4F-B5B7-B3286B21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8CF5-F978-446D-84C9-AC6B9F8F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70B5A-1167-4E59-B738-E9617A2C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86823-06FA-47FD-BDBF-189236C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03C09-EC91-4361-89F7-107AE190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5F58D-D8A9-40EA-BE7B-F76175B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B4A-0E01-4546-B94E-24E51D3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37CB4-9ECA-4801-8E9C-BC829789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B914-3583-47E0-9F39-7419A62B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C60D-CB8F-46EE-87BD-6F9151E9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11F3-52CA-429D-A2FE-3D32903A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0AE25-F0E4-4FAD-9D6D-2D1277AF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392A-C3F5-4DC9-A13A-10D9DCDB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CF8E7-7230-4FB0-943C-4E20CB00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0A2D-6480-4088-98D4-1A612BDA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E7A7-B90E-44FD-92B9-49BA268C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E9BE-C1C5-4632-A450-2AC18AC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3A6-A929-4697-88E7-76B2076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DF8B5-6FBA-4B03-81EE-630E373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6221-49C8-4390-9F08-9CB02EB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D53A-8168-484A-BCE1-1FC1921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FFF6-A1E0-4644-819F-1DFE4637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97E57-6468-42AC-AE53-272E34B8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B53-953D-4ED5-BD31-9F3AC6D7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7DDE-A14D-4CF2-B6E8-E5978DF6B14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D79C-5417-4737-8282-7FF6452C21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70E-0FE1-4725-9C52-3C1E4409AC1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D1B1-DDAE-48D9-99FA-D4DBE0FD1C1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B7E3-65CF-4A97-A1E1-AB2380B515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3195-04C0-4478-BBA4-5852E251851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4680-15F7-49D3-BD18-53B2E3181EF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y of Pigs Invasion, Berlin Crisis, and Cuban Missile Crisi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What impact did the Bay of Pigs, Berlin Crisis, and Cuban Missile Crisis have on the Cold War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6"/>
          <p:cNvSpPr/>
          <p:nvPr/>
        </p:nvSpPr>
        <p:spPr>
          <a:xfrm>
            <a:off x="380880" y="205740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issil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 the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ban sites threate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jor cities in the United Stat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8" name="Picture 5" descr="hsus_ch28_s1_CubanMissileMap"/>
          <p:cNvPicPr/>
          <p:nvPr/>
        </p:nvPicPr>
        <p:blipFill>
          <a:blip r:embed="rId1"/>
          <a:stretch/>
        </p:blipFill>
        <p:spPr>
          <a:xfrm>
            <a:off x="3352680" y="1295280"/>
            <a:ext cx="5748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Cuban Missile Crisi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1676520" y="3962520"/>
            <a:ext cx="66294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hrushchev agreed to dismantle the missiles if the United States pledged to never invade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oth Kennedy and Khrushchev took steps to ease tensions between their countrie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y set up a hotline to allow direct communication during times of crisi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Limited Nuclear Test Ban Treaty was signed, ending atmospheric and underwater testing of nuclear weapon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1676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anag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676520" y="838080"/>
            <a:ext cx="6629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assembled a group of advisors, known as the ExComm, to help him plan a respons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ExComm military members favored an air strike, perhaps followed by a land invasion of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Others argued for a naval blockade.  Kennedy agreed with this plan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world watched as Soviet ships carrying missile parts approached the naval blockade.  They turned back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20560" y="4191120"/>
            <a:ext cx="10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ffects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of th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8"/>
          <p:cNvSpPr/>
          <p:nvPr/>
        </p:nvSpPr>
        <p:spPr>
          <a:xfrm>
            <a:off x="4495680" y="18288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b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533520" y="1828800"/>
            <a:ext cx="39621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43040" y="2066760"/>
          <a:ext cx="7696080" cy="3610080"/>
        </p:xfrm>
        <a:graphic>
          <a:graphicData uri="http://schemas.openxmlformats.org/drawingml/2006/table">
            <a:tbl>
              <a:tblPr/>
              <a:tblGrid>
                <a:gridCol w="3752640"/>
                <a:gridCol w="3943440"/>
              </a:tblGrid>
              <a:tr h="609840"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ubl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ind the Sce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0240"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a television address, Kennedy blamed </a:t>
                      </a:r>
                      <a:r>
                        <a:rPr b="0" lang="en-US" sz="1800" spc="-1" strike="noStrike">
                          <a:solidFill>
                            <a:srgbClr val="a5d028"/>
                          </a:solidFill>
                          <a:latin typeface="Verdana"/>
                        </a:rPr>
                        <a:t>Khrushchev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reckless action that threatened world pe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initiated a U.S. naval blockade of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told the Soviets that the United States would remove U.S. missiles from Turkey and Italy if the Soviets removed their missiles from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6680" y="1523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resolve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Kennedy worked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soviet_old_soviet_union_fla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386320" y="5257800"/>
            <a:ext cx="1243080" cy="824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us_flag"/>
          <p:cNvPicPr/>
          <p:nvPr/>
        </p:nvPicPr>
        <p:blipFill>
          <a:blip r:embed="rId2">
            <a:lum bright="44000"/>
          </a:blip>
          <a:stretch/>
        </p:blipFill>
        <p:spPr>
          <a:xfrm>
            <a:off x="2514600" y="5267160"/>
            <a:ext cx="1343160" cy="8146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29"/>
          <p:cNvSpPr/>
          <p:nvPr/>
        </p:nvSpPr>
        <p:spPr>
          <a:xfrm>
            <a:off x="304920" y="140184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fter six tense days, the Soviets backed off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Text Box 130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ikita Khrushche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greed to honor the blockade and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d the missil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066680" y="3429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risis prompted the two leaders to establish a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eriod of détente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set up 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t 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Washington, D.C. and Moscow to improve communicatio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3" name="Picture 10" descr="hsus_ch28_s1_hotlineleft"/>
          <p:cNvPicPr/>
          <p:nvPr/>
        </p:nvPicPr>
        <p:blipFill>
          <a:blip r:embed="rId3"/>
          <a:stretch/>
        </p:blipFill>
        <p:spPr>
          <a:xfrm>
            <a:off x="4038480" y="5257800"/>
            <a:ext cx="1087560" cy="78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7-532-map"/>
          <p:cNvPicPr/>
          <p:nvPr/>
        </p:nvPicPr>
        <p:blipFill>
          <a:blip r:embed="rId1"/>
          <a:stretch/>
        </p:blipFill>
        <p:spPr>
          <a:xfrm>
            <a:off x="338040" y="363600"/>
            <a:ext cx="8447040" cy="5624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7-528-image"/>
          <p:cNvPicPr/>
          <p:nvPr/>
        </p:nvPicPr>
        <p:blipFill>
          <a:blip r:embed="rId1"/>
          <a:stretch/>
        </p:blipFill>
        <p:spPr>
          <a:xfrm>
            <a:off x="63360" y="762120"/>
            <a:ext cx="901728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52280" y="4373640"/>
            <a:ext cx="487692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5720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nnedy took responsibility for the mission’s failure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AutoShape 10"/>
          <p:cNvSpPr/>
          <p:nvPr/>
        </p:nvSpPr>
        <p:spPr>
          <a:xfrm flipH="1">
            <a:off x="5180760" y="3962520"/>
            <a:ext cx="3581640" cy="2133360"/>
          </a:xfrm>
          <a:prstGeom prst="wedgeRoundRectCallout">
            <a:avLst>
              <a:gd name="adj1" fmla="val -41537"/>
              <a:gd name="adj2" fmla="val -64847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334120" y="41148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esident said, however, that he would continue to resist efforts by the communists to control other countries in Western Hemispher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0480" y="15238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arted with Eisenhower and followed with Kennedy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ceived by the CIA to overthrow Fidel Castro, the invasion involved Cuban exiles who had fled Castro’s rule and settled in the United States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ay of Pig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ssion failed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 Bay of Pigs Invasion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ay of Pigs Invas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533520" y="1600200"/>
            <a:ext cx="7696080" cy="26668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Failed Invas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formation was leaked early- New York Tim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ir strikes faile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Castro prepared for a land attack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vaders were captured and ransomed back to United States for $52 million in food and ai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trengthened Castro’s ties to the Soviet Un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81360" y="4438800"/>
            <a:ext cx="456264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8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457200" y="380880"/>
            <a:ext cx="8001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Berlin Crisis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greement over Berlin led to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ilding of the </a:t>
            </a:r>
            <a:r>
              <a:rPr b="1" lang="en-US" sz="2400" spc="-1" strike="noStrike">
                <a:solidFill>
                  <a:srgbClr val="a5d028"/>
                </a:solidFill>
                <a:latin typeface="Verdana"/>
              </a:rPr>
              <a:t>Berlin Wal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AutoShape 23"/>
          <p:cNvSpPr/>
          <p:nvPr/>
        </p:nvSpPr>
        <p:spPr>
          <a:xfrm flipH="1">
            <a:off x="380160" y="2286000"/>
            <a:ext cx="3581640" cy="1295280"/>
          </a:xfrm>
          <a:prstGeom prst="wedgeRoundRectCallout">
            <a:avLst>
              <a:gd name="adj1" fmla="val -59356"/>
              <a:gd name="adj2" fmla="val -75004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hrushchev insisted the U.S. end its military presence in West Berl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AutoShape 24"/>
          <p:cNvSpPr/>
          <p:nvPr/>
        </p:nvSpPr>
        <p:spPr>
          <a:xfrm flipH="1">
            <a:off x="4723560" y="2057400"/>
            <a:ext cx="4038840" cy="1600200"/>
          </a:xfrm>
          <a:prstGeom prst="wedgeRoundRectCallout">
            <a:avLst>
              <a:gd name="adj1" fmla="val 54675"/>
              <a:gd name="adj2" fmla="val 63689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nnedy refused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763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hrushchev ordered the building of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parating East and West Berli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9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4248000" y="4343400"/>
            <a:ext cx="457200" cy="1447920"/>
          </a:xfrm>
          <a:prstGeom prst="rect">
            <a:avLst/>
          </a:prstGeom>
          <a:gradFill rotWithShape="0">
            <a:gsLst>
              <a:gs pos="0">
                <a:srgbClr val="a3a3c1"/>
              </a:gs>
              <a:gs pos="50000">
                <a:srgbClr val="dddddd"/>
              </a:gs>
              <a:gs pos="100000">
                <a:srgbClr val="a3a3c1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533520" y="1447920"/>
            <a:ext cx="838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response to Khrushchev’s actions, Kennedy requested a larg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increase in military spendin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also sent 1,500 more U.S. soldiers to West Berlin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37339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a symbol of the gulf betwe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AutoShape 15"/>
          <p:cNvSpPr/>
          <p:nvPr/>
        </p:nvSpPr>
        <p:spPr>
          <a:xfrm flipH="1" rot="5400000">
            <a:off x="2056680" y="2937600"/>
            <a:ext cx="762120" cy="3962520"/>
          </a:xfrm>
          <a:prstGeom prst="upArrowCallout">
            <a:avLst>
              <a:gd name="adj1" fmla="val 96842"/>
              <a:gd name="adj2" fmla="val 50000"/>
              <a:gd name="adj3" fmla="val 68650"/>
              <a:gd name="adj4" fmla="val 26394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4952880" y="47242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AutoShape 16"/>
          <p:cNvSpPr/>
          <p:nvPr/>
        </p:nvSpPr>
        <p:spPr>
          <a:xfrm flipH="1" rot="16200000">
            <a:off x="6186240" y="2847600"/>
            <a:ext cx="762120" cy="4143600"/>
          </a:xfrm>
          <a:prstGeom prst="upArrowCallout">
            <a:avLst>
              <a:gd name="adj1" fmla="val 96842"/>
              <a:gd name="adj2" fmla="val 50000"/>
              <a:gd name="adj3" fmla="val 71788"/>
              <a:gd name="adj4" fmla="val 263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685800" y="47242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mocratic We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5029200" y="4724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7-531-closeup"/>
          <p:cNvPicPr/>
          <p:nvPr/>
        </p:nvPicPr>
        <p:blipFill>
          <a:blip r:embed="rId1"/>
          <a:stretch/>
        </p:blipFill>
        <p:spPr>
          <a:xfrm>
            <a:off x="1447920" y="-30240"/>
            <a:ext cx="5638680" cy="69138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Rectangle 6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6"/>
          <p:cNvSpPr/>
          <p:nvPr/>
        </p:nvSpPr>
        <p:spPr>
          <a:xfrm>
            <a:off x="5791320" y="2133720"/>
            <a:ext cx="3124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962, American intelligence agencies photographed Sovie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uclear missile installations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Cub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4" name="Picture 5" descr="hsus_ch28_s1_CubanMissiles"/>
          <p:cNvPicPr/>
          <p:nvPr/>
        </p:nvPicPr>
        <p:blipFill>
          <a:blip r:embed="rId1"/>
          <a:stretch/>
        </p:blipFill>
        <p:spPr>
          <a:xfrm>
            <a:off x="304920" y="1676520"/>
            <a:ext cx="543564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1523880" y="1003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://wiki.danse.us/danse-restricted/images/1/12/CubanMissileCrisisU2photo.jpg"/>
          <p:cNvPicPr/>
          <p:nvPr/>
        </p:nvPicPr>
        <p:blipFill>
          <a:blip r:embed="rId1"/>
          <a:stretch/>
        </p:blipFill>
        <p:spPr>
          <a:xfrm>
            <a:off x="0" y="20520"/>
            <a:ext cx="9240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22:51:52Z</dcterms:created>
  <dc:creator>Gille, Brock</dc:creator>
  <dc:description/>
  <dc:language>en-US</dc:language>
  <cp:lastModifiedBy>Sacerdote, Kevin R.</cp:lastModifiedBy>
  <dcterms:modified xsi:type="dcterms:W3CDTF">2016-02-28T16:26:40Z</dcterms:modified>
  <cp:revision>6</cp:revision>
  <dc:subject/>
  <dc:title>PowerPoint Presentation</dc:title>
</cp:coreProperties>
</file>